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white rectangle.png"/>
          <p:cNvPicPr/>
          <p:nvPr/>
        </p:nvPicPr>
        <p:blipFill>
          <a:blip r:embed="rId3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841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7603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1093680" indent="6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1425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1425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1425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Title 1" descr=""/>
          <p:cNvPicPr/>
          <p:nvPr/>
        </p:nvPicPr>
        <p:blipFill>
          <a:blip r:embed="rId1"/>
          <a:stretch/>
        </p:blipFill>
        <p:spPr>
          <a:xfrm>
            <a:off x="378000" y="-42840"/>
            <a:ext cx="7686360" cy="16034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00080" y="1219320"/>
            <a:ext cx="9043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US Hist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Learning Goal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Students will be able to describe four causes of the Civil Wa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533520" y="2666880"/>
            <a:ext cx="7772400" cy="396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Title 1" descr=""/>
          <p:cNvPicPr/>
          <p:nvPr/>
        </p:nvPicPr>
        <p:blipFill>
          <a:blip r:embed="rId1"/>
          <a:stretch/>
        </p:blipFill>
        <p:spPr>
          <a:xfrm>
            <a:off x="378000" y="171360"/>
            <a:ext cx="8388000" cy="676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0" y="1371240"/>
            <a:ext cx="262728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outh &amp; North were only looking out for their own interes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**Southerners wanted slavery no matter what**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2776680" y="914400"/>
            <a:ext cx="6365880" cy="551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Title 1" descr=""/>
          <p:cNvPicPr/>
          <p:nvPr/>
        </p:nvPicPr>
        <p:blipFill>
          <a:blip r:embed="rId1"/>
          <a:stretch/>
        </p:blipFill>
        <p:spPr>
          <a:xfrm>
            <a:off x="304920" y="158760"/>
            <a:ext cx="8461080" cy="878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380880" y="1413000"/>
            <a:ext cx="8382240" cy="23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preme Court ruled African-Americans were not citizens and did not have legal prote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85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urt argued the writers of the Constitution had not intended African Americans to be citizen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Title 1" descr=""/>
          <p:cNvPicPr/>
          <p:nvPr/>
        </p:nvPicPr>
        <p:blipFill>
          <a:blip r:embed="rId1"/>
          <a:stretch/>
        </p:blipFill>
        <p:spPr>
          <a:xfrm>
            <a:off x="328680" y="158760"/>
            <a:ext cx="8437320" cy="878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7920" y="1218960"/>
            <a:ext cx="819936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ritten by Harriet Beecher Stow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ctional work showing how bad slavery w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ll received in the Nor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a southern bookstore sold it, they received death threa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"There, you impudent dog! Now will you learn not to answer back when I speak to you? Take the horse back, and clean him properly. I'll teach you your place!"  - Harriet Beecher Stowe,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Uncle Tom's Cabi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Ch. 2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itle 1" descr=""/>
          <p:cNvPicPr/>
          <p:nvPr/>
        </p:nvPicPr>
        <p:blipFill>
          <a:blip r:embed="rId1"/>
          <a:stretch/>
        </p:blipFill>
        <p:spPr>
          <a:xfrm>
            <a:off x="378000" y="158760"/>
            <a:ext cx="8388000" cy="878040"/>
          </a:xfrm>
          <a:prstGeom prst="rect">
            <a:avLst/>
          </a:prstGeom>
          <a:ln w="0">
            <a:noFill/>
          </a:ln>
        </p:spPr>
      </p:pic>
      <p:pic>
        <p:nvPicPr>
          <p:cNvPr id="164" name="Content Placeholder 3" descr="big-john-brown.jpg"/>
          <p:cNvPicPr/>
          <p:nvPr/>
        </p:nvPicPr>
        <p:blipFill>
          <a:blip r:embed="rId2"/>
          <a:srcRect l="0" t="4893" r="0" b="4893"/>
          <a:stretch/>
        </p:blipFill>
        <p:spPr>
          <a:xfrm>
            <a:off x="380880" y="1413000"/>
            <a:ext cx="8382240" cy="498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Title 1" descr=""/>
          <p:cNvPicPr/>
          <p:nvPr/>
        </p:nvPicPr>
        <p:blipFill>
          <a:blip r:embed="rId1"/>
          <a:stretch/>
        </p:blipFill>
        <p:spPr>
          <a:xfrm>
            <a:off x="378000" y="158760"/>
            <a:ext cx="8388000" cy="878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151920" y="1218960"/>
            <a:ext cx="8688600" cy="533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was an abolitioni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ied to seize a federal arsenal, then wanted to free and arm the slaves in the area and began an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insurrection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gainst white slavehold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had a little success before being arrested and execut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North saw him as a martyr (hero who dies for a caus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uth saw him as proof the North wanted to kill slavehold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1"/>
          <a:stretch/>
        </p:blipFill>
        <p:spPr>
          <a:xfrm>
            <a:off x="328680" y="158760"/>
            <a:ext cx="8437320" cy="878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380880" y="1413000"/>
            <a:ext cx="8382240" cy="37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raham Lincoln did not win a single state in the South so the South decided to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cede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formed the Confederate States of America (CSA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uth saw the victory as a victory for abolitionis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ncoln’s goal as the war began was to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eserve the Union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not to end slavery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1" descr=""/>
          <p:cNvPicPr/>
          <p:nvPr/>
        </p:nvPicPr>
        <p:blipFill>
          <a:blip r:embed="rId1"/>
          <a:stretch/>
        </p:blipFill>
        <p:spPr>
          <a:xfrm>
            <a:off x="328680" y="158760"/>
            <a:ext cx="8437320" cy="8780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380880" y="1413000"/>
            <a:ext cx="8382240" cy="45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 Tab Book Foldable: Causes of the Civil Wa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ld a sheet of paper in half like a hot dog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 Main Causes of Civil War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) Sectional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) Dred Scott Decis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) Uncle Tom’s Cab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4) Election of Lincol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Mark Scacewater</cp:lastModifiedBy>
  <dcterms:modified xsi:type="dcterms:W3CDTF">2013-12-27T04:46:17Z</dcterms:modified>
  <cp:revision>2</cp:revision>
  <dc:subject/>
  <dc:title>Sample presentation slides (Blue with green bar design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7119990</vt:lpwstr>
  </property>
</Properties>
</file>